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646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0778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28600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lomarbei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zeption eines Archivarbeitsplatzes für ein elektronisches Zeitungsarc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gabenstelle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Schl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r Sauter (I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rbeit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 Sie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 Archiv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t der Bedienung Ihres Systemes meist gut vertr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te Kenntnisse der Archivstru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äufig komplexe Recher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 externe Ku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ch kein genaues Benutzerprofil bekan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ische und abrechnungstechnische Fragen stehen im Vordergr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ardwareumge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latzrech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zwer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beitsplatzrech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 Umgebung (Windows, Win95, NT, OS/2, MacOS, Un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dschirmauflösung ab 800x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zwerkanschluß an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etzwer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aktionsarbeitsplät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ist noch kein Internetzu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arsarbeitspl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70 - Zugang zu Regis, SAD -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Zukunft auch Intranetanschlu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atenb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sher: Regis, SAD - Datenba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basierende Sys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70 - Terminalzu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ilweise sehr komplexe Benutzer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plant: BR - Zeitungsarc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erver -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zu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fache Bedie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cherchegegen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ieß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, SG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sifaxsimi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simi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folgsfaktoren für den Redaktionsarbeitspl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cht zu erlernende Oberfläche (Schulungszeit unter vier Stun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nelle Antwortz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Qualität der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icht zu erlernende 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gefeilte Benutzerführung (Benutzerpro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fache und übersichtliche Oberflä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 Überladen mit Funktional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tbedien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browser (Netscape, Explo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fangreiches Hilfe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für alle Datenbanken gl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hnelle Antwortz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zlast verm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öglichst viele Aufgaben lokal erle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äufigen Verbindungsaufbau verme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 übertragende Datenmengen gering 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meidung von Flaschenhäl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el des Vortr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stellung der Diplom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ohe Qualität der Recher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chaubare Trefferanza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Aufbereitung der Treffer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chwertige Qualität der Treffer (aussagekräftige Artik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sch hochwertige Qualität der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recherchen ermögli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43000" y="380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usammenfassung der Aufgabenstel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wurf eines Rechercharbeitsplatzes für digitale Medien - 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un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cht bedien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nelle Antwortz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Qualtität der Recher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sche Einbindung bestehender und neuer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nitt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schnittst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79404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0552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ro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5248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5248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1788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9404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52480" y="52578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33720" y="4495680"/>
            <a:ext cx="0" cy="8384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70160" y="4708440"/>
            <a:ext cx="269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weiterl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5248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5248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3372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10552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133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8098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4864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668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133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098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4864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52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4290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6668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5248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2900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105520" y="4495680"/>
            <a:ext cx="1600200" cy="822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52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4290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055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98108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148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52480" y="20574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48640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9568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971800" y="2514600"/>
            <a:ext cx="0" cy="15238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752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290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1055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bau des Vortr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gabenstel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ösungsansät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eller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b2b2b2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ächste Schri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gebnisanz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52480" y="357012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5248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42900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0552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5248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42900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0552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33720" y="4035600"/>
            <a:ext cx="251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752480" y="297180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49568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9718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75248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42900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0552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52480" y="1523880"/>
            <a:ext cx="37432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52480" y="2057400"/>
            <a:ext cx="3743280" cy="274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743200" y="1959120"/>
            <a:ext cx="0" cy="10126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727360" y="2422440"/>
            <a:ext cx="155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Anfrage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ic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auf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. aufr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vo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ragemas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0512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5084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72736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06668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03848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Anfragem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 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 Anfrage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ro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ic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an Überse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von Übersetzer, Anfrageob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403848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9051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50840" y="348948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r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727360" y="3489480"/>
            <a:ext cx="118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5257800"/>
            <a:ext cx="388620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066680" y="4495680"/>
            <a:ext cx="0" cy="8384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03480" y="4708440"/>
            <a:ext cx="269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weiterl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8796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242244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066680" y="228600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038480" y="2362320"/>
            <a:ext cx="0" cy="17524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Übersetzung der Anf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055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Überset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fange Anfrage vo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üfe Zugriffs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munikation mit Daten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e Ergebnis an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281952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06668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36232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36232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4320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38480" y="4022640"/>
            <a:ext cx="1600200" cy="366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038480" y="4495680"/>
            <a:ext cx="1600200" cy="8222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4197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36232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038480" y="5867280"/>
            <a:ext cx="1600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600200" y="341316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 ve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5334120"/>
            <a:ext cx="305280" cy="533880"/>
          </a:xfrm>
          <a:custGeom>
            <a:avLst/>
            <a:gdLst/>
            <a:ahLst/>
            <a:rect l="0" t="0" r="r" b="b"/>
            <a:pathLst>
              <a:path fill="none" w="848" h="1483">
                <a:moveTo>
                  <a:pt x="283" y="0"/>
                </a:moveTo>
                <a:lnTo>
                  <a:pt x="848" y="636"/>
                </a:lnTo>
                <a:lnTo>
                  <a:pt x="0" y="636"/>
                </a:lnTo>
                <a:lnTo>
                  <a:pt x="848" y="1483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rgebnisanz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357012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36232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38480" y="4884840"/>
            <a:ext cx="1600200" cy="701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 Re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36232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.B.Fe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038480" y="5961240"/>
            <a:ext cx="1600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66680" y="4035600"/>
            <a:ext cx="251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 samm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5541840"/>
            <a:ext cx="305280" cy="419400"/>
          </a:xfrm>
          <a:custGeom>
            <a:avLst/>
            <a:gdLst/>
            <a:ahLst/>
            <a:rect l="0" t="0" r="r" b="b"/>
            <a:pathLst>
              <a:path fill="none" w="848" h="1165">
                <a:moveTo>
                  <a:pt x="283" y="0"/>
                </a:moveTo>
                <a:lnTo>
                  <a:pt x="848" y="498"/>
                </a:lnTo>
                <a:lnTo>
                  <a:pt x="0" y="498"/>
                </a:lnTo>
                <a:lnTo>
                  <a:pt x="848" y="1165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2971800"/>
            <a:ext cx="3886200" cy="39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o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41972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2900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5120" y="3330720"/>
            <a:ext cx="0" cy="11952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80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36232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38480" y="4514760"/>
            <a:ext cx="1600200" cy="33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riffsrech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62120" y="1523880"/>
            <a:ext cx="3743280" cy="4572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gebnisanze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2120" y="2057400"/>
            <a:ext cx="3743280" cy="274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prof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676520" y="1959120"/>
            <a:ext cx="0" cy="10126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660680" y="2422440"/>
            <a:ext cx="155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105520" y="198108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kt Ergebnisanz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fferliste an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kel anfor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ystemarchitektur 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7640" y="1490760"/>
            <a:ext cx="7848720" cy="4803840"/>
            <a:chOff x="647640" y="1490760"/>
            <a:chExt cx="7848720" cy="4803840"/>
          </a:xfrm>
        </p:grpSpPr>
        <p:sp>
          <p:nvSpPr>
            <p:cNvPr id="359" name=""/>
            <p:cNvSpPr txBox="1"/>
            <p:nvPr/>
          </p:nvSpPr>
          <p:spPr>
            <a:xfrm>
              <a:off x="685800" y="2816280"/>
              <a:ext cx="77724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frageobjek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685800" y="1490760"/>
              <a:ext cx="374328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fragemas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685800" y="3443400"/>
              <a:ext cx="77724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ok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64764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Re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331488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FeS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4724280" y="1490760"/>
              <a:ext cx="374328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rgebnisanzei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64764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Re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5981760" y="4457880"/>
              <a:ext cx="2514600" cy="1224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Übersetzung der Anfrage für DB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31488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.B. FeS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981760" y="5837400"/>
              <a:ext cx="2514600" cy="4572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enbank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64764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31488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5981760" y="4138560"/>
              <a:ext cx="251460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85800" y="200340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griffsrech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685800" y="229716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nutzerprof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4724280" y="2003400"/>
              <a:ext cx="3743280" cy="274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enutzerprof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orteile dieser Architekt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Flexibilit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auschbarkeit d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weite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tformunabhäng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eilte Ausführung d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hängigkeit der Rechercheoberfläche von den darunterliegenden Datenba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eispieloberflä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ortrag Christopher Sch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ktueller Stand der 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tersuchung bestehender Archivarbeitspl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wurf für Redaktionsarbeitsplatz erstel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ragemaske als Java-Applet in Fopra von C. Schmid realisi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ker als Java-Applikation in erster Test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setzer für AltaVista in Java lauffäh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fgabenstel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kooperation BR - 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forderungs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sammenfas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ächste Schr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sierung eines Prototy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munikationsprotokoll zwischen Anfrageobjekt, Broker, Übersetzer entwick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bindung mehrerer SAD-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weiterung des bestehenden Entwurfs der Benutzerschnitts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recherchen am Prototyp durch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itungsredakt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mitarb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ternetadressen des Proj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ueller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nformatik.tu-muenchen.de/ ~sieburg/DA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en 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burg@informatik.tu-muench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chivkooperation BR - 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zugründendes digitales Zeitungsarc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isierung bestehender Papier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 - Zeitungsarc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 - Zeitungsarc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99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beziehung bestehender digitaler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 (hostbasierendes System, Zugang über 3270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hausinterne Datenbanken des BR: MUSAD, WOSAD, FESAD, ... (3270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fgabe der Diplomarb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zeption Recherchearbeits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ntwicklung &amp;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forderungsanaly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elgru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umgeb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erchegegen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folgsfak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akte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vmitarbe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e K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Zielgruppe Redakte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inge Computerkennt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ht mit Datenbankstrukturen vertr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he Ansprüche an die optische Aufbereitung der Ergeb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äufig unter Zeit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 Sieburg</dc:creator>
  <dc:description/>
  <dc:language>en-US</dc:language>
  <cp:lastModifiedBy>Marc Sieburg</cp:lastModifiedBy>
  <cp:revision>0</cp:revision>
  <dc:subject/>
  <dc:title>Redaktionsarbeitsplätze für die Recherche Anbindung an hostbasierende Systeme</dc:title>
</cp:coreProperties>
</file>