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646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0778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aktionsarbeitsplätze für die Recherc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bindung an hostbasierende Syst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 Sie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opher Sch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Hohe Qualität der Recher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chaubare Trefferan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Aufbereitung der Treffer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chwertige Qualität der Treffer (aussagekräftige Artik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sch hochwertige Qualität der 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wortzeiten möglichst kur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ösungs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l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nitt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schnittst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ebnisanze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ob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5248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mas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5248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52480" y="19051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1788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5248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5248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13372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mas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75248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52480" y="19051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1788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794040" y="348948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5248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5248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13372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105520" y="236232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Bro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75248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52480" y="19051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1788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94040" y="348948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52480" y="525780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133720" y="4495680"/>
            <a:ext cx="0" cy="8384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70160" y="4708440"/>
            <a:ext cx="269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weiterl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5248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5248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3372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05520" y="236232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Übersetzung der Anf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28195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5248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5248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13372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42900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2900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0988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0552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0552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8640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666880" y="341316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ve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Übersetzung der Anf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52480" y="28195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5248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5248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3372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2900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42900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80988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10552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10552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8640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75248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42900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10552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666880" y="341316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ve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Übersetzung der Anf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52480" y="28195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5248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42900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10552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75248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42900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10552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81080" y="341316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 samm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52480" y="205740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486400" y="251460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495680" y="251460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71800" y="251460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5248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42900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0552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rgebnisanzei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52480" y="357012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5248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42900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0552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5248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2900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0552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33720" y="4035600"/>
            <a:ext cx="2514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 samm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52480" y="297180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48640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9568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97180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5248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42900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10552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752480" y="1523880"/>
            <a:ext cx="37432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ebnisanze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52480" y="2057400"/>
            <a:ext cx="3743280" cy="274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743200" y="1959120"/>
            <a:ext cx="0" cy="10126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727360" y="2422440"/>
            <a:ext cx="155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el des Vortr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stellung des Anwendungsprojek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ob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055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Anfrage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ic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 aufr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ebnisanz. aufr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e an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fange von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4038480"/>
            <a:ext cx="3886200" cy="4572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mas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905120"/>
            <a:ext cx="3886200" cy="4572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5084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727360" y="348948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06668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038480" y="236232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1055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Anfragem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 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 Anfrage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Bro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1055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Br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ic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e an Anfrageo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e an Überse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fange von Übersetzer, Anfrageob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9051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5084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7360" y="348948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5257800"/>
            <a:ext cx="3886200" cy="4572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066680" y="4495680"/>
            <a:ext cx="0" cy="8384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03480" y="4708440"/>
            <a:ext cx="269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weiterl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06668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038480" y="236232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Übersetzung der Anf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1055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Überset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fange Anfrage von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üfe 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munikation mit Daten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e Ergebnis an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28195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4495680"/>
            <a:ext cx="1600200" cy="8222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06668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6232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362320" y="4495680"/>
            <a:ext cx="1600200" cy="8222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3848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38480" y="4495680"/>
            <a:ext cx="1600200" cy="8222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41972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36232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03848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600200" y="341316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ve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rgebnisanzei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357012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36232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03848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36232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03848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66680" y="4035600"/>
            <a:ext cx="2514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 samm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812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7692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297180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41972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42900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90512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36232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03848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2120" y="1523880"/>
            <a:ext cx="3743280" cy="4572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ebnisanze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057400"/>
            <a:ext cx="3743280" cy="274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676520" y="1959120"/>
            <a:ext cx="0" cy="10126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660680" y="2422440"/>
            <a:ext cx="155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10552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Ergebnisanze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 anz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kel anfor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ystemarchitektur 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47640" y="1490760"/>
            <a:ext cx="7848720" cy="4803840"/>
            <a:chOff x="647640" y="1490760"/>
            <a:chExt cx="7848720" cy="4803840"/>
          </a:xfrm>
        </p:grpSpPr>
        <p:sp>
          <p:nvSpPr>
            <p:cNvPr id="337" name=""/>
            <p:cNvSpPr txBox="1"/>
            <p:nvPr/>
          </p:nvSpPr>
          <p:spPr>
            <a:xfrm>
              <a:off x="685800" y="2816280"/>
              <a:ext cx="77724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frage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685800" y="1490760"/>
              <a:ext cx="374328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fragemas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685800" y="3443400"/>
              <a:ext cx="77724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ok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647640" y="4457880"/>
              <a:ext cx="2514600" cy="1224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Übersetzung der Anfrage für D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.B. Reg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3314880" y="4457880"/>
              <a:ext cx="2514600" cy="1224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Übersetzung der Anfrage für D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.B. FeS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724280" y="1490760"/>
              <a:ext cx="374328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rgebnisanzei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647640" y="5837400"/>
              <a:ext cx="25146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.B. Reg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5981760" y="4457880"/>
              <a:ext cx="2514600" cy="1224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Übersetzung der Anfrage für DB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3314880" y="5837400"/>
              <a:ext cx="25146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.B. FeS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981760" y="5837400"/>
              <a:ext cx="25146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enbank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647640" y="4138560"/>
              <a:ext cx="251460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griffsrech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3314880" y="4138560"/>
              <a:ext cx="251460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griffsrech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5981760" y="4138560"/>
              <a:ext cx="251460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griffsrech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685800" y="2003400"/>
              <a:ext cx="374328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griffsrech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85800" y="2297160"/>
              <a:ext cx="374328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enutzerprof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724280" y="2003400"/>
              <a:ext cx="374328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enutzerprof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orteile dieser Architekt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he Flexibilit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auschbarkeit d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weite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tformunabhäng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eilte Ausführung d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bhängigkeit der Rechercheoberfläche von den darunterliegenden Datenba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Beispieloberflä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43000" y="3808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forderungen für die Benutzer-schnittst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hes Maß an Akzeptanz der Benut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utzerfreundlich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cht zu erlernende Oberflä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ltextsuche soll vermieden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mse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tbedien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 Überladen mit Funktionalit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fangreiches Hilfe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sch hochwertige Qualität der 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 für alle Datenbanken gl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chaubare Trefferan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Aufbereitung der Treffer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bau des Vortr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erchearbeitspl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gabenstel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ösungsansa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spieloberflä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dschirm-Auftei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 wichtigen Komponenten auf einen B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teilung des Bildschirms in drei Fr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ein Frame fü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maske / Arti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ebnisba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tionst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mas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der für Attribute (Datum, Stichwort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urierbare logische Verknüpfungen der Attribut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, oder, nic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s fü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frage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frage abs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-371520" y="5207040"/>
            <a:ext cx="1533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ferbaum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657600" y="17524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stellung wie Windows95-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sierung durch I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klappbare Kno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archive konfigurierb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nbanken aus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henfolge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ferbaum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04920" y="480060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feranzeige durch +-Zei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öglichkeit zur Rückkehr in die Suchm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t lesbarer Schriftanteil klappt über Frame-Rand 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tions-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981080" y="175248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hält Funktions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icher-Button (Anfrage, Anfrage und Treffermenge, Artikel speiche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3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ck-Button (Artikel druc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3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fe-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3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en-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509840" y="4564080"/>
            <a:ext cx="8524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auf einer Recherch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fiz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frageattribute eint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nbanken auswä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frage abs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ferbaum zeigt Treffer hierarchisch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auf einer Recherch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wahl der Trefferanzeige (nach Datenbanken, Datum, Quellen,..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kel auswählen (durch Mauskli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kel erscheint im mittleren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kel speichern oder dru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eits gesichtete Artikel werden gekenn-zeich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fe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82880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bblehelp” (beim Verweilen des Maus-zeigers auf einer Funk-tionstaste oder Icon erscheint Hilfe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führliche Hilf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1-Tas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fe-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648320" y="4869000"/>
            <a:ext cx="8524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tere Funktional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fragemaske für Anfänger, Fortgeschritte-ne und Kö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fängermaske mit Assistentenunterstütz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geschrittene wie ges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ür Könner steht auch eine Eingabezeile zur Verfüg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gabemaske für alle Datenbanken gl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mé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forderungen werden durch das Konzept erfül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el bzgl. verwendeter Plat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utzerfreund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sch erweiter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onenten können leicht 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ufgabenstel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wurf eines digitalen Recherchearbeitspl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elgru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folgsfak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aus resultierende Anfor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mé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scheidung für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äuft als Applet in einem Brows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lexibilität bzgl. Platt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orientiert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llt benötigte Funktionen zur Verfüg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sockets / Interprozeßkommun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0-Terminal-E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sche Benutzerschnittstell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ternetadressen des Proj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ueller 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nformatik.tu-muenchen.de/ ~sieburg/DA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en 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burg@informatik.tu-muench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midc@informatik.tu-muench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Zielgru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akte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vmitarbe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Zielgruppe Redakte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inge Computerkennt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ht mit Datenbankstrukturen vertr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äufig unter Zeitd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43000" y="3808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rfolgsfaktoren für den Redaktionsarbeitspl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icht zu erlernende Oberfläche (Schulungszeit unter vier Stun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nelle Antwortz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he Qualität der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icht zu erlernende Oberflä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gefeilte Benutzerführung (Benutzerpro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fache und übersichtliche Oberflä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 Überladen mit Funktionalit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tbedien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browser (Netscape, Explo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fangreiches Hilfe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 für alle Datenbanken gl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chnelle Antwortz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zlast verm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öglichst viele Aufgaben lokal erle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äufigen Verbindungsaufbau verme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 übertragende Datenmengen gering 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meidung von Flaschenhäl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 Sieburg</dc:creator>
  <dc:description/>
  <dc:language>en-US</dc:language>
  <cp:lastModifiedBy>Marc Sieburg</cp:lastModifiedBy>
  <cp:revision>0</cp:revision>
  <dc:subject/>
  <dc:title>Redaktionsarbeitsplätze für die Recherche Anbindung an hostbasierende Systeme</dc:title>
</cp:coreProperties>
</file>